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5E3-C6AF-412C-951A-18A07ED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449-6355-4E74-9433-A84D52D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800-FF32-43AD-82B2-D1CC3DCA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D55-2CA3-4F6F-B781-E029A0EB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3C5-A933-4CE6-92D8-3F34CF3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081-3FA2-4FDA-9408-39A3EC72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498-ED13-4480-90CC-EFD58CC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F3F-FC9E-4A30-9011-49BF8027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AEA-5B35-45EF-86A3-7B8757D7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356-8BA4-4444-B3BD-D13811C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608-8D60-488D-BD29-64DF1A4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23C-259F-4801-97A7-451591B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5EB-111F-47F3-8CAC-21833B804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a line when you hav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93064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19320" y="5943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if the slope is zero the lin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t is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053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7692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finition of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38080" y="19051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80880" y="3809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AIN SmBd v.1"/>
              </a:rPr>
              <a:t>To find the slope of a line from two points you need to subtract the y values and divide by the difference in the x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7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438200" cy="110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885600" cy="1104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-2) and (9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(-2)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4/6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895480" y="50292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5202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666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the line has a positive slope, that the line rises up as it goes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77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4,-2) and (-4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4-(-2)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-4-4=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-8 = -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47242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2189160" y="990720"/>
            <a:ext cx="5222880" cy="48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23880" y="59436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negative, that the line goes down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150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2408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4) and (3,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-2 – 4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3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-6/0 =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fraction can not have zero in the denomin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334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un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325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undefined, that i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181480" y="2819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3,4) and (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y’s  4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x’s 2 – (-3)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nd simplify  0/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if the numerator is zero the fraction simplifies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6720" y="5562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1:45:02Z</dcterms:created>
  <dc:creator>Preferred Customer</dc:creator>
  <dc:description/>
  <dc:language>en-US</dc:language>
  <cp:lastModifiedBy>Troy</cp:lastModifiedBy>
  <dcterms:modified xsi:type="dcterms:W3CDTF">2009-10-13T03:27:47Z</dcterms:modified>
  <cp:revision>17</cp:revision>
  <dc:subject/>
  <dc:title>Slope</dc:title>
</cp:coreProperties>
</file>